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lick to move the slide</a:t>
            </a: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84C2D68-69A6-4236-9604-DA350B0781E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1C0E6C-70E3-44E1-A54C-5232958AFE2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2624874-A730-451F-AE0F-F280C1CD7FF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b2ced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24852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9700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6265800"/>
            <a:ext cx="1352520" cy="592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224160" y="6264360"/>
            <a:ext cx="7561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343080" indent="-343080"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Superintendência de Apoio a Gestão de Recursos Hídricos - S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-27000"/>
            <a:ext cx="9921960" cy="1249200"/>
            <a:chOff x="0" y="-27000"/>
            <a:chExt cx="9921960" cy="1249200"/>
          </a:xfrm>
        </p:grpSpPr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4016520" y="-27000"/>
              <a:ext cx="187308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4"/>
            <a:stretch/>
          </p:blipFill>
          <p:spPr>
            <a:xfrm>
              <a:off x="1208160" y="-27000"/>
              <a:ext cx="1873080" cy="12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5"/>
            <a:stretch/>
          </p:blipFill>
          <p:spPr>
            <a:xfrm>
              <a:off x="2649600" y="-27000"/>
              <a:ext cx="1728720" cy="12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6"/>
            <a:stretch/>
          </p:blipFill>
          <p:spPr>
            <a:xfrm>
              <a:off x="5745240" y="-27000"/>
              <a:ext cx="17287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" descr=""/>
            <p:cNvPicPr/>
            <p:nvPr/>
          </p:nvPicPr>
          <p:blipFill>
            <a:blip r:embed="rId7"/>
            <a:stretch/>
          </p:blipFill>
          <p:spPr>
            <a:xfrm>
              <a:off x="6824520" y="-27000"/>
              <a:ext cx="14414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" descr=""/>
            <p:cNvPicPr/>
            <p:nvPr/>
          </p:nvPicPr>
          <p:blipFill>
            <a:blip r:embed="rId8"/>
            <a:stretch/>
          </p:blipFill>
          <p:spPr>
            <a:xfrm>
              <a:off x="0" y="-27000"/>
              <a:ext cx="1763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" descr=""/>
            <p:cNvPicPr/>
            <p:nvPr/>
          </p:nvPicPr>
          <p:blipFill>
            <a:blip r:embed="rId9"/>
            <a:stretch/>
          </p:blipFill>
          <p:spPr>
            <a:xfrm>
              <a:off x="8193240" y="-27000"/>
              <a:ext cx="172872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1" lang="en-US" sz="18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1" lang="en-US" sz="1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200160" y="2038320"/>
            <a:ext cx="935964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3366"/>
                </a:solidFill>
                <a:latin typeface="Tahoma"/>
              </a:rPr>
              <a:t>Nota Técnica da ANA para subsidiar a definição pelo CNRH dos valores a serem cobrados pelo uso de recursos hídricos em corpos d’água de domínio da União, com base nos mecanismos e quantitativos sugeridos pela Deliberação CBHSF nº 56/201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66680" y="5286240"/>
            <a:ext cx="4641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CTCOB/CNRH, 28 de abril de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tângulo 3"/>
          <p:cNvSpPr/>
          <p:nvPr/>
        </p:nvSpPr>
        <p:spPr>
          <a:xfrm>
            <a:off x="523800" y="4340160"/>
            <a:ext cx="87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2699"/>
                </a:solidFill>
                <a:latin typeface="Tahoma"/>
              </a:rPr>
              <a:t>GECOB/S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2720880" y="332640"/>
            <a:ext cx="4032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Valores de Cobran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719360"/>
            <a:ext cx="9906120" cy="1474560"/>
          </a:xfrm>
          <a:prstGeom prst="rect">
            <a:avLst/>
          </a:prstGeom>
          <a:solidFill>
            <a:srgbClr val="33cccc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0098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ahoma"/>
              </a:rPr>
              <a:t>Quando o vazão medida anualmente for menor que 26,4 m³/s, a base de cálculo é Q</a:t>
            </a:r>
            <a:r>
              <a:rPr b="0" lang="pt-BR" sz="2400" spc="-1" strike="noStrike" baseline="-25000">
                <a:solidFill>
                  <a:srgbClr val="003366"/>
                </a:solidFill>
                <a:latin typeface="Tahoma"/>
              </a:rPr>
              <a:t>cap</a:t>
            </a:r>
            <a:r>
              <a:rPr b="0" lang="pt-BR" sz="2400" spc="-1" strike="noStrike">
                <a:solidFill>
                  <a:srgbClr val="003366"/>
                </a:solidFill>
                <a:latin typeface="Tahoma"/>
              </a:rPr>
              <a:t> (26,4 m³/s) e K</a:t>
            </a:r>
            <a:r>
              <a:rPr b="0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0" lang="pt-BR" sz="2400" spc="-1" strike="noStrike">
                <a:solidFill>
                  <a:srgbClr val="003366"/>
                </a:solidFill>
                <a:latin typeface="Tahoma"/>
              </a:rPr>
              <a:t> é 0,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0098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0098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Valor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Transp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= R$ 12.488.2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15840" y="3902760"/>
            <a:ext cx="9906120" cy="1859400"/>
          </a:xfrm>
          <a:prstGeom prst="rect">
            <a:avLst/>
          </a:prstGeom>
          <a:solidFill>
            <a:srgbClr val="3333cc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0098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ahoma"/>
              </a:rPr>
              <a:t>Quando o vazão medida anualmente for maior que 26,4 m³/s, as distribuições de água entre os setores usuários somente serão conhecidas com a aprovação dos P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0098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0098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imes New Roman"/>
              </a:rPr>
              <a:t>Valor</a:t>
            </a:r>
            <a:r>
              <a:rPr b="1" lang="pt-BR" sz="2800" spc="-1" strike="noStrike" baseline="-25000">
                <a:solidFill>
                  <a:srgbClr val="003366"/>
                </a:solidFill>
                <a:latin typeface="Times New Roman"/>
              </a:rPr>
              <a:t>Transp</a:t>
            </a:r>
            <a:r>
              <a:rPr b="1" lang="pt-BR" sz="2800" spc="-1" strike="noStrike">
                <a:solidFill>
                  <a:srgbClr val="003366"/>
                </a:solidFill>
                <a:latin typeface="Times New Roman"/>
              </a:rPr>
              <a:t> &gt; R$ 12.488.2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88880" y="1340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1ª situação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560520" y="34995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2ª situ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2073240" y="332640"/>
            <a:ext cx="5327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Impactos sobre os usuá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389680"/>
            <a:ext cx="9906120" cy="459720"/>
          </a:xfrm>
          <a:prstGeom prst="rect">
            <a:avLst/>
          </a:prstGeom>
          <a:solidFill>
            <a:srgbClr val="33cccc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0098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Já apresentados em outras Notas 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15840" y="4039920"/>
            <a:ext cx="9906120" cy="1191240"/>
          </a:xfrm>
          <a:prstGeom prst="rect">
            <a:avLst/>
          </a:prstGeom>
          <a:solidFill>
            <a:srgbClr val="3333cc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0098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Exige conhecer o modo como a Cobrança, em cada Estado da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região receptora, será rateada entre os setores, bem como o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conhecimento dos usuários, seus custos e recei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88880" y="150408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1ª situação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60520" y="33044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2ª situ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2419200"/>
            <a:ext cx="9632880" cy="1191240"/>
          </a:xfrm>
          <a:prstGeom prst="rect">
            <a:avLst/>
          </a:prstGeom>
          <a:solidFill>
            <a:srgbClr val="339966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009800"/>
                <a:tab algn="l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Tahoma"/>
              </a:rPr>
              <a:t>Quando do início da operação do PISF, a ANA</a:t>
            </a:r>
            <a:r>
              <a:rPr b="0" lang="pt-BR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003366"/>
                </a:solidFill>
                <a:latin typeface="Tahoma"/>
              </a:rPr>
              <a:t>será responsável pela aprovação das tarifas a serem cobradas pela futura Entidade Operadora Federal (O&amp;M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88880" y="162792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2ª situ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4186080"/>
            <a:ext cx="9632880" cy="1191240"/>
          </a:xfrm>
          <a:prstGeom prst="rect">
            <a:avLst/>
          </a:prstGeom>
          <a:solidFill>
            <a:srgbClr val="00ff0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Para exercer estas atividades, a ANA elaborará os estudos necessários para, dentre outros, calcular os impactos dessas tarifas sobre usuários característicos dos diversos se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269720"/>
            <a:ext cx="9906120" cy="48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3366"/>
                </a:solidFill>
                <a:latin typeface="Tahoma"/>
              </a:rPr>
              <a:t>Art. 1º. Fica definido o critério complementar para o coeficiente multiplicador de cobrança K</a:t>
            </a:r>
            <a:r>
              <a:rPr b="1" lang="pt-BR" sz="22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200" spc="-1" strike="noStrike">
                <a:solidFill>
                  <a:srgbClr val="003366"/>
                </a:solidFill>
                <a:latin typeface="Tahoma"/>
              </a:rPr>
              <a:t> que é o coeficiente que leva em conta a prioridade de uso estabelecida no Plano de Recursos Hídricos da Bacia do Rio São Francisco, para alocações externas das águas da Bacia Hidrográfica do Rio São Francisc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3366"/>
                </a:solidFill>
                <a:latin typeface="Tahoma"/>
              </a:rPr>
              <a:t>§1º O coeficiente multiplicador K</a:t>
            </a:r>
            <a:r>
              <a:rPr b="1" lang="pt-BR" sz="22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200" spc="-1" strike="noStrike">
                <a:solidFill>
                  <a:srgbClr val="003366"/>
                </a:solidFill>
                <a:latin typeface="Tahoma"/>
              </a:rPr>
              <a:t> terá o valor igual a 0,5 para a finalidade de abastecimento human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3366"/>
                </a:solidFill>
                <a:latin typeface="Tahoma"/>
              </a:rPr>
              <a:t>§2º O coeficiente multiplicador K</a:t>
            </a:r>
            <a:r>
              <a:rPr b="1" lang="pt-BR" sz="22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200" spc="-1" strike="noStrike">
                <a:solidFill>
                  <a:srgbClr val="003366"/>
                </a:solidFill>
                <a:latin typeface="Tahoma"/>
              </a:rPr>
              <a:t> terá o valor igual a 1 para as demais finalidades de uso das água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3366"/>
                </a:solidFill>
                <a:latin typeface="Tahoma"/>
              </a:rPr>
              <a:t>Art. 2º. Ficam mantidos os demais mecanismos e critérios, bem como as sugestões de valores e definições dispostos na Deliberação CBHSF nº4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208160" y="404640"/>
            <a:ext cx="763416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ahoma"/>
              </a:rPr>
              <a:t>Delib. CBHSF nº 56, de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5"/>
          <p:cNvSpPr/>
          <p:nvPr/>
        </p:nvSpPr>
        <p:spPr>
          <a:xfrm>
            <a:off x="0" y="188604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loc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priorida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Kgest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03440" y="38026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Quando a vazão efetivamente utilizada for superior à vazão firme outorgada a qualquer temp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0" y="495936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loc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priorida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Kgest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04880" y="13708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Transposi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208160" y="189000"/>
            <a:ext cx="763416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Tahoma"/>
              </a:rPr>
              <a:t>Mecanismos e valores para usos externos (Delib. nº 40 + Delib. nº 5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97108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volume anual de água captado, em m³/ano, segundo valores da outo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992160" y="1297080"/>
            <a:ext cx="360036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Valores dos Preços Unitá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855720" y="1762200"/>
          <a:ext cx="8273880" cy="1090440"/>
        </p:xfrm>
        <a:graphic>
          <a:graphicData uri="http://schemas.openxmlformats.org/drawingml/2006/table">
            <a:tbl>
              <a:tblPr/>
              <a:tblGrid>
                <a:gridCol w="3986280"/>
                <a:gridCol w="1306440"/>
                <a:gridCol w="1303200"/>
                <a:gridCol w="167796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ipo de us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Un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alor (R$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apta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pt-BR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1" lang="en-US" sz="18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su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PU</a:t>
                      </a:r>
                      <a:r>
                        <a:rPr b="1" lang="pt-BR" sz="1800" spc="-1" strike="noStrike" baseline="-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1" lang="en-US" sz="18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Text Box 2"/>
          <p:cNvSpPr/>
          <p:nvPr/>
        </p:nvSpPr>
        <p:spPr>
          <a:xfrm>
            <a:off x="992160" y="2997360"/>
            <a:ext cx="3313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ahoma"/>
              </a:rPr>
              <a:t>Valores dos Coefic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849240" y="3500280"/>
          <a:ext cx="8280000" cy="2592360"/>
        </p:xfrm>
        <a:graphic>
          <a:graphicData uri="http://schemas.openxmlformats.org/drawingml/2006/table">
            <a:tbl>
              <a:tblPr/>
              <a:tblGrid>
                <a:gridCol w="4215240"/>
                <a:gridCol w="2373480"/>
                <a:gridCol w="1691280"/>
              </a:tblGrid>
              <a:tr h="370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R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LA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A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4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cap clas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prioridade (para abasteciment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K prioridade (para outras finalidad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5"/>
          <p:cNvSpPr/>
          <p:nvPr/>
        </p:nvSpPr>
        <p:spPr>
          <a:xfrm>
            <a:off x="0" y="188604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loc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priorida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Kgest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03440" y="34311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Quando a vazão efetivamente utilizada for superior à vazão firme outorgada a qualquer temp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0" y="458784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loc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priorida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Kgest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04880" y="137088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Transposi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15800" y="73080"/>
            <a:ext cx="907416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Duas possibilidades de base de cálculo (Q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cap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Q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med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) e do valor de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(0,5 e 1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15840" y="282636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volume anual de água captado, em m³, segundo valores da outo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49600" y="1844640"/>
            <a:ext cx="71892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410680" y="1844640"/>
            <a:ext cx="107928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49600" y="4568760"/>
            <a:ext cx="71892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410680" y="4568760"/>
            <a:ext cx="107928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5302080"/>
            <a:ext cx="9906120" cy="87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= Volume anual de água captado, em m³, para alocação externa de água, segundo dados de medi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4881600" y="1311120"/>
            <a:ext cx="381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ahoma"/>
              </a:rPr>
              <a:t>Q</a:t>
            </a:r>
            <a:r>
              <a:rPr b="0" lang="pt-BR" sz="2800" spc="-1" strike="noStrike" baseline="-25000">
                <a:solidFill>
                  <a:srgbClr val="003366"/>
                </a:solidFill>
                <a:latin typeface="Tahoma"/>
              </a:rPr>
              <a:t>Cap</a:t>
            </a:r>
            <a:r>
              <a:rPr b="0" lang="pt-BR" sz="2800" spc="-1" strike="noStrike">
                <a:solidFill>
                  <a:srgbClr val="003366"/>
                </a:solidFill>
                <a:latin typeface="Tahoma"/>
              </a:rPr>
              <a:t> = 26,4 m³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350028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0" y="2894760"/>
            <a:ext cx="9906120" cy="1859400"/>
          </a:xfrm>
          <a:prstGeom prst="rect">
            <a:avLst/>
          </a:prstGeom>
          <a:solidFill>
            <a:srgbClr val="cc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ahoma"/>
              </a:rPr>
              <a:t>Portanto, enquanto o volume utilizado segundo dados de medição for inferior à vazão firme outorgada a qualquer tempo, a base de cálculo será Q</a:t>
            </a:r>
            <a:r>
              <a:rPr b="0" lang="pt-BR" sz="2800" spc="-1" strike="noStrike" baseline="-25000">
                <a:solidFill>
                  <a:srgbClr val="003366"/>
                </a:solidFill>
                <a:latin typeface="Tahoma"/>
              </a:rPr>
              <a:t>cap</a:t>
            </a:r>
            <a:r>
              <a:rPr b="0" lang="pt-BR" sz="2800" spc="-1" strike="noStrike">
                <a:solidFill>
                  <a:srgbClr val="003366"/>
                </a:solidFill>
                <a:latin typeface="Tahoma"/>
              </a:rPr>
              <a:t>, ou seja, o volume correspondente a 26,4 m³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1628280"/>
            <a:ext cx="9906120" cy="947160"/>
          </a:xfrm>
          <a:prstGeom prst="rect">
            <a:avLst/>
          </a:prstGeom>
          <a:solidFill>
            <a:srgbClr val="0000ff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Tahoma"/>
              </a:rPr>
              <a:t>O valor da outorga é de 26,4 m³/s, para finalidades de abastecimento humano e dessedentação anim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415800" y="73080"/>
            <a:ext cx="907416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Duas possibilidades de base de cálculo (Q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cap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Q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med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) e do valor de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(0,5 e 1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0" y="5054760"/>
            <a:ext cx="9906120" cy="1006200"/>
          </a:xfrm>
          <a:prstGeom prst="rect">
            <a:avLst/>
          </a:prstGeom>
          <a:solidFill>
            <a:srgbClr val="ccffff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Quando o volume segundo dados de medição for maior que a vazão firme outorgada, a base de cálculo será Q</a:t>
            </a:r>
            <a:r>
              <a:rPr b="0" lang="en-US" sz="2800" spc="-1" strike="noStrike" baseline="-25000">
                <a:solidFill>
                  <a:srgbClr val="003366"/>
                </a:solidFill>
                <a:latin typeface="Tahoma"/>
              </a:rPr>
              <a:t>MED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0" y="188604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loc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priorida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Kgest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5028120"/>
            <a:ext cx="9906120" cy="87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ahoma"/>
              </a:rPr>
              <a:t>Quando o volume medido for superior a 26,4 m³/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Q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MED</a:t>
            </a:r>
            <a:r>
              <a:rPr b="0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= 0,5 </a:t>
            </a:r>
            <a:r>
              <a:rPr b="0" lang="pt-BR" sz="2400" spc="-1" strike="noStrike">
                <a:solidFill>
                  <a:srgbClr val="003366"/>
                </a:solidFill>
                <a:latin typeface="Tahoma"/>
              </a:rPr>
              <a:t>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1,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0" y="4311720"/>
            <a:ext cx="99061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loc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exter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PP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x 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cap class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priorida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Kgest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0" y="2723040"/>
            <a:ext cx="9906120" cy="87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008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ahoma"/>
              </a:rPr>
              <a:t>Antes da entrada em operação e até que o volume medido seja superior a 26,4 m³/s: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Q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cap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= 26,4 m³/s</a:t>
            </a:r>
            <a:r>
              <a:rPr b="0" lang="pt-BR" sz="2400" spc="-1" strike="noStrike">
                <a:solidFill>
                  <a:srgbClr val="003366"/>
                </a:solidFill>
                <a:latin typeface="Tahoma"/>
              </a:rPr>
              <a:t> e 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= 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415800" y="73080"/>
            <a:ext cx="907416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Duas possibilidades de base de cálculo (Q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cap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e Q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med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) e do valor de K</a:t>
            </a:r>
            <a:r>
              <a:rPr b="1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1" lang="pt-BR" sz="2400" spc="-1" strike="noStrike">
                <a:solidFill>
                  <a:srgbClr val="003366"/>
                </a:solidFill>
                <a:latin typeface="Tahoma"/>
              </a:rPr>
              <a:t> (0,5 e 1,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49600" y="1886040"/>
            <a:ext cx="718920" cy="57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410680" y="1886040"/>
            <a:ext cx="1079280" cy="57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49600" y="4292640"/>
            <a:ext cx="71892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10680" y="4292640"/>
            <a:ext cx="107928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88880" y="1340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1ª situação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560520" y="377280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2ª situ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560520" y="1340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2ª situ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868400"/>
            <a:ext cx="9906120" cy="2399040"/>
          </a:xfrm>
          <a:prstGeom prst="rect">
            <a:avLst/>
          </a:prstGeom>
          <a:solidFill>
            <a:srgbClr val="3333cc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009800"/>
                <a:tab algn="l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Times New Roman"/>
              </a:rPr>
              <a:t>Para calcular a Cobrança, a ANA deverá adotar um critério de parcelamento de Q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ahoma"/>
                <a:ea typeface="Times New Roman"/>
              </a:rPr>
              <a:t>MED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Times New Roman"/>
              </a:rPr>
              <a:t> em duas par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009800"/>
                <a:tab algn="l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009800"/>
                <a:tab algn="l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Times New Roman"/>
              </a:rPr>
              <a:t>- Volume correspondente ao abastecimento humano e 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Times New Roman"/>
              </a:rPr>
              <a:t>dessedentação animal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009800"/>
                <a:tab algn="l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009800"/>
                <a:tab algn="l" pos="3776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  <a:ea typeface="Times New Roman"/>
              </a:rPr>
              <a:t>- Volume correspondente às demais finalidad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516640"/>
            <a:ext cx="9906120" cy="560880"/>
          </a:xfrm>
          <a:prstGeom prst="rect">
            <a:avLst/>
          </a:prstGeom>
          <a:solidFill>
            <a:srgbClr val="339966">
              <a:alpha val="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ahoma"/>
              </a:rPr>
              <a:t>A cada parcela será aplicado o K</a:t>
            </a:r>
            <a:r>
              <a:rPr b="0" lang="pt-BR" sz="24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0" lang="pt-BR" sz="2400" spc="-1" strike="noStrike">
                <a:solidFill>
                  <a:srgbClr val="003366"/>
                </a:solidFill>
                <a:latin typeface="Tahoma"/>
              </a:rPr>
              <a:t> correspondente, 0,5 ou 1,0.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437000"/>
            <a:ext cx="9906120" cy="886320"/>
          </a:xfrm>
          <a:prstGeom prst="rect">
            <a:avLst/>
          </a:prstGeom>
          <a:solidFill>
            <a:srgbClr val="33cccc">
              <a:alpha val="1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Uma possibilidade são as proporções correspondentes à repartição de vazões entre setores do Plano de Gestão Anual do PISF – PGA.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15800" y="1776240"/>
            <a:ext cx="9201240" cy="3565800"/>
          </a:xfrm>
          <a:prstGeom prst="rect">
            <a:avLst/>
          </a:prstGeom>
          <a:solidFill>
            <a:srgbClr val="33cccc">
              <a:alpha val="7000"/>
            </a:srgbClr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009800"/>
                <a:tab algn="l" pos="5810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pt-BR" sz="2800" spc="-1" strike="noStrike">
                <a:solidFill>
                  <a:srgbClr val="003366"/>
                </a:solidFill>
                <a:latin typeface="Tahoma"/>
              </a:rPr>
              <a:t>É adequada a utilização de</a:t>
            </a:r>
            <a:r>
              <a:rPr b="0" lang="pt-BR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003366"/>
                </a:solidFill>
                <a:latin typeface="Tahoma"/>
              </a:rPr>
              <a:t>um K</a:t>
            </a:r>
            <a:r>
              <a:rPr b="0" lang="pt-BR" sz="2800" spc="-1" strike="noStrike" baseline="-25000">
                <a:solidFill>
                  <a:srgbClr val="003366"/>
                </a:solidFill>
                <a:latin typeface="Tahoma"/>
              </a:rPr>
              <a:t>prioridade</a:t>
            </a:r>
            <a:r>
              <a:rPr b="0" lang="pt-BR" sz="2800" spc="-1" strike="noStrike">
                <a:solidFill>
                  <a:srgbClr val="003366"/>
                </a:solidFill>
                <a:latin typeface="Tahoma"/>
              </a:rPr>
              <a:t> maior para os usos com finalidades distintas de abastecimento humano e dessedentação animal...pois o uso da água da BHSF em alocações externas não é considerado prioritário pelo CBHSF, exceto para o abastecimento humano e a dessedentação animal em situações de escassez (Deliberação CBHSF nº 18, de 27 de outubro de 2004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2649600" y="332640"/>
            <a:ext cx="4968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Adequação do mecan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4T19:55:44Z</dcterms:created>
  <dc:creator>Laboratorio de Hidrologia</dc:creator>
  <dc:description/>
  <dc:language>en-US</dc:language>
  <cp:lastModifiedBy>giordanobruno</cp:lastModifiedBy>
  <cp:lastPrinted>2001-06-06T00:02:34Z</cp:lastPrinted>
  <dcterms:modified xsi:type="dcterms:W3CDTF">2011-04-26T20:53:06Z</dcterms:modified>
  <cp:revision>1332</cp:revision>
  <dc:subject/>
  <dc:title>Apresentação do PowerPoint</dc:title>
</cp:coreProperties>
</file>